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306-F7FA-4758-ABFC-B647F094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F73-998F-4366-B04C-D3A6FF27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C58-98FB-477D-BDD9-6A62D119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079-A5A8-4B27-BFC2-D66D6FF9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699-A386-4BB7-B6F3-53D7CF74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6B6-3825-4B85-958A-E3C8541B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972-DEF7-4DB4-9591-8A172D9A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B22-6168-4875-9084-AF7DCF37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827-F1F4-436B-9C0E-4856C02A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D78-8730-4734-A0AE-97E1414D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244-22CC-4B1A-A9A7-C71F071D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0E7-DA31-4CFA-B26C-5DCC5289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ED758019-54C6-4FBD-9507-0F001235022D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2nd Board Meet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NA1- Management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Ma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Statu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 March – Project Star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 May – Month 15 (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 March – Project Completion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Quar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1: March, April,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2: June, July, Aug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3: September, October, Nov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4: December, January, Febr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E24-A791-4478-AA2B-90D712B2E9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General Items w/r/t Accoun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keep track of items lo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“reasonable estimates” for quarterly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spending to 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financial report (Form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 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834-780B-4356-B4D9-ABFD5D8DD1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he 70% Rul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nual report highlighted some inconsistencies in the financial forms.  The inconsistencies were presented at the review along with an explanation of the decisions made to deal with the inconsist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dited spending presented to the EC surpassed the threshold necessary to receive the next t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ed spending: 794,713 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% threshold: 733,600 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not yet received feedback from the annual report, but based on initial conversations, there should be no issue receiving the second t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E11-894B-432C-ADDB-7737A20ECE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onthly Repor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s submitted on a monthly basis.  Short updates to provide Science Officer with information on the month to month status of the pro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the medium through which we signal unexpected accomplishments or delay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ing warning information in the months leading up to a problem is crucial to show that we knew the problem exi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ports are available on the wi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1143000"/>
          <a:ext cx="4038480" cy="39528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38D-A7E5-40FE-8A44-714D6D00A4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arterly Repor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supposed to provide quarterly financial updates to the EC.  The information can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im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purpose is to show that the trends are 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first year, we provided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rs/manpower expended 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sp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, hardwar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(lease, one time payment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in addition to the standard monthl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281-A7D7-4C09-B8F2-41E1D35E75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nnual Repor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eparate agenda item to discuss the Annu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ext year, things to impr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outline of final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work packages more clos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re-use of monthly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mmunication with the financial contacts w/r/t the Form C and au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D2F-279D-45D7-A990-D9F989B2CC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liverabl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s learn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want physical copies of all deliverables; digital/online is not considered su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review, the deliverables list is a checklist- they expect to see the deliverable completed (or with an explanation as to why it is not comple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new deliverables list based on the Next 18 Month Plan submitted during the annual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raft is available on the 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tover will happen after we receive comments/feedback from the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992-F3D9-4558-93F4-72547D6414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0"/>
          <a:stretch/>
        </p:blipFill>
        <p:spPr>
          <a:xfrm>
            <a:off x="4038480" y="121932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CB9-C66C-4286-93BB-8132AFCDBB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. Charles Yun</cp:lastModifiedBy>
  <dcterms:modified xsi:type="dcterms:W3CDTF">2007-05-24T10:16:08Z</dcterms:modified>
  <cp:revision>112</cp:revision>
  <dc:subject/>
  <dc:title>Slide 1</dc:title>
</cp:coreProperties>
</file>